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F3B-81F4-40A0-98AA-B33E9505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381-BB98-4D16-8757-C821B96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B6F-B008-4841-AEAF-EAF44A7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083-EBD3-4F0F-B99B-32E85F5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1C8C-C02F-4D8A-894C-FC8675AF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89C-C8E4-446E-82B6-25ABA37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EA5-29D3-42CE-A6B9-61EAE2E2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6AD9-A848-42D3-BC8D-C640A0D4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B3D-A1F3-465F-8113-80205D0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55AF-9881-4161-9D19-6ACCA70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2F0-0952-4C45-A10B-9E2A718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E3D-3EEB-4462-9020-D11249C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9851-D62A-4165-A85D-4EA25BD5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C22-EC08-4053-BAE9-9464510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1DB-948A-4914-9FEA-3C8711E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81B1-17E8-475B-93BE-7F8ABBE6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CAA2-75A8-4B00-BCC2-C35E360A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DCA-9FD9-40AA-95C3-1032B16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55F-28A4-4DA2-BC0F-55DACDC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EC5-226B-42C1-BB02-B6217368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7EF-1D3B-49A8-A142-F52AE14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FC6-5558-483D-A4C4-A1C7A77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FD6-BD7A-46AC-B9E1-9DCC4B3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32E-002E-4361-88FD-3759392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269-0E18-41E3-819A-660C2A59D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ED7-BDF1-4038-88A6-32E0634D7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 Cas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Jordan Silv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Gara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s 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01668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Mansió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mansion. Es bonita y luj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. Es bella y nu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Large-kitchen-wooden-cupboards-shelves-and-countertop-with-chairs"/>
          <p:cNvPicPr/>
          <p:nvPr/>
        </p:nvPicPr>
        <p:blipFill>
          <a:blip r:embed="rId1"/>
          <a:stretch/>
        </p:blipFill>
        <p:spPr>
          <a:xfrm>
            <a:off x="1523880" y="2666880"/>
            <a:ext cx="6629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sala. Es fabulosa y nu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800100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omed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comedor. Es lujoso y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big white luxury dining table and chairs"/>
          <p:cNvPicPr/>
          <p:nvPr/>
        </p:nvPicPr>
        <p:blipFill>
          <a:blip r:embed="rId1"/>
          <a:stretch/>
        </p:blipFill>
        <p:spPr>
          <a:xfrm>
            <a:off x="838080" y="2590920"/>
            <a:ext cx="800100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Bañ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 Es grande y incre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800100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cuarto. Es Bello y antig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in. Es nuevo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9250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moderno y luj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9058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7Z</dcterms:created>
  <dc:creator>silvermanjor</dc:creator>
  <dc:description/>
  <dc:language>en-US</dc:language>
  <cp:lastModifiedBy>silvermanjor</cp:lastModifiedBy>
  <dcterms:modified xsi:type="dcterms:W3CDTF">2011-10-25T16:10:50Z</dcterms:modified>
  <cp:revision>14</cp:revision>
  <dc:subject/>
  <dc:title>La Casa</dc:title>
</cp:coreProperties>
</file>